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C51-B90B-496B-805A-0476373F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06A-463A-4C25-9616-FC217C31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C01-9DD2-4B6C-AADF-A183091D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F83-9A39-411F-ACB3-EEBBE2A0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808-1BC1-4B98-B49E-776E39F6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75B-8AEC-40A1-99B1-71A11B3E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3B5-D916-458F-A313-C9DB0CD6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65A-18BD-4D93-841F-E11FD7C4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168-23CF-4387-BE1E-C73F185B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3A0-F767-4880-AF5F-58FAAAE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81C-F051-4B9D-AB46-839D0E62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5CD-07A6-435C-8F92-60ECFA4D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7590-35E3-4A90-B982-D0EC9F863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.baidu.com/&#38634;&#37326;&#38083;&#26408;/album/item/dd383006bcd8906d020881f1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背景1 (2)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三代人"/>
          <p:cNvPicPr/>
          <p:nvPr/>
        </p:nvPicPr>
        <p:blipFill>
          <a:blip r:embed="rId2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447960" y="-107640"/>
            <a:ext cx="164340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Arial"/>
              </a:rPr>
              <a:t>散 步 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670080" y="3573360"/>
            <a:ext cx="200880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莫怀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838080" y="5562720"/>
            <a:ext cx="6248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d383006bcd8906d020881f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85800" y="1268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、散步的人有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            　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427640" y="134136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母亲、我、妻子、儿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364000" y="2133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田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435640" y="292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初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77080" y="3860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573120" y="-7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快速抢答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627280" y="5589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一家人在田野里温馨地散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1450080" y="551664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幼圆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幼圆"/>
              </a:rPr>
              <a:t>、结局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540160" y="2060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、散步的地点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540160" y="2852640"/>
            <a:ext cx="216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、散步的季节是：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　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84360" y="3573360"/>
            <a:ext cx="729108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、散步的过程中发生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：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（用原文中的一个词来回答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80880" y="3429000"/>
            <a:ext cx="838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9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7924680" y="5867280"/>
            <a:ext cx="1028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复述课文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28600" y="35053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散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章写了初春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母亲、妻子、儿子和我一行四人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我的提议下到田野上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地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散步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起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儿子要走小路，小路有意思；母亲想走大路，大路平顺。我决定委屈儿子走大路，母亲疼爱孙子决定走小路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经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最后我背着母亲，妻子背着儿子，一起散步在初春的田野小路上。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958160" y="3505320"/>
            <a:ext cx="10335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六要素串联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4680"/>
            <a:ext cx="9612360" cy="6853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04920" y="457200"/>
            <a:ext cx="906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感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大声朗读课文。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勾画出优美语句、词语，把握语气、语调。（语气：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Arial"/>
              </a:rPr>
              <a:t>温和，亲切中含着庄重；语调：平稳，声音不宜过高或过低。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）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过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写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简要复述全文主要内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读出来一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人物形象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、在散步过程中“分歧”是怎样解决的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”决定走哪条路？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90720" y="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再读课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但母亲后来还是决定改变主意走小路，由此可以看出什么？母亲和儿子发生了分歧，此时的“我”为什么感到“责任重大”？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宋体"/>
              </a:rPr>
              <a:t>最后，全家是怎样走过那条小路的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你从课文中感受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宋体"/>
              </a:rPr>
              <a:t>8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、作者为我们展示了怎样的家庭？分别概括出“母亲、妻子、我”是什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“我”和妻子是如何背着母亲、儿子走过那条小路的？为什么说“我”背上的同她背上的加起来就是整个世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049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你给这个家庭及家庭中的四个成员分别加一个修饰语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4479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（        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）的家庭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                 ）的母亲（                  ）的“我” （                  ）的妻子（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        ）的儿子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333360"/>
            <a:ext cx="2438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母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儿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47640" y="836640"/>
            <a:ext cx="762120" cy="360"/>
            <a:chOff x="1547640" y="836640"/>
            <a:chExt cx="762120" cy="360"/>
          </a:xfrm>
        </p:grpSpPr>
        <p:sp>
          <p:nvSpPr>
            <p:cNvPr id="91" name="Line 3"/>
            <p:cNvSpPr/>
            <p:nvPr/>
          </p:nvSpPr>
          <p:spPr>
            <a:xfrm>
              <a:off x="1547640" y="83664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547640" y="83664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2340000" y="333360"/>
            <a:ext cx="2590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走大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走小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92720" y="0"/>
            <a:ext cx="175248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平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有意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020000" y="476280"/>
            <a:ext cx="228600" cy="159048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590480"/>
              <a:gd name="textAreaBottom" fmla="*/ 1549080 h 15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7086600" y="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我感到责任重大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619280" y="1916280"/>
            <a:ext cx="762120" cy="360"/>
            <a:chOff x="1619280" y="1916280"/>
            <a:chExt cx="762120" cy="360"/>
          </a:xfrm>
        </p:grpSpPr>
        <p:sp>
          <p:nvSpPr>
            <p:cNvPr id="98" name="Line 8"/>
            <p:cNvSpPr/>
            <p:nvPr/>
          </p:nvSpPr>
          <p:spPr>
            <a:xfrm>
              <a:off x="1619280" y="19162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619280" y="19162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00720" y="765000"/>
            <a:ext cx="761760" cy="360"/>
            <a:chOff x="4500720" y="765000"/>
            <a:chExt cx="761760" cy="360"/>
          </a:xfrm>
        </p:grpSpPr>
        <p:sp>
          <p:nvSpPr>
            <p:cNvPr id="101" name="Line 9"/>
            <p:cNvSpPr/>
            <p:nvPr/>
          </p:nvSpPr>
          <p:spPr>
            <a:xfrm>
              <a:off x="4500720" y="7650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4500720" y="7650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500720" y="1916280"/>
            <a:ext cx="761760" cy="360"/>
            <a:chOff x="4500720" y="1916280"/>
            <a:chExt cx="761760" cy="360"/>
          </a:xfrm>
        </p:grpSpPr>
        <p:sp>
          <p:nvSpPr>
            <p:cNvPr id="104" name="Line 10"/>
            <p:cNvSpPr/>
            <p:nvPr/>
          </p:nvSpPr>
          <p:spPr>
            <a:xfrm>
              <a:off x="4500720" y="19162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500720" y="191628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1"/>
          <p:cNvSpPr/>
          <p:nvPr/>
        </p:nvSpPr>
        <p:spPr>
          <a:xfrm>
            <a:off x="0" y="51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从这个故事中，你觉得这是一个怎样的家庭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419640" y="59500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温馨、幸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0" y="234936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家中的地位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848520" y="386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中年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2340000" y="32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善待衰老的生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340000" y="414972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爱护幼小的生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6300720" y="3284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生的</a:t>
            </a: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责任感、使命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2602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精巧的构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580080" y="1152360"/>
            <a:ext cx="19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妻子分别背起母亲和儿子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8360" y="2421000"/>
            <a:ext cx="12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黑体"/>
              </a:rPr>
              <a:t>劝母亲散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66880" y="4243320"/>
            <a:ext cx="12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全家一起散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411280" y="242100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选择大路小路的分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255920" y="4149720"/>
            <a:ext cx="168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决定委屈儿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00720" y="205416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母亲却依从孙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AutoShape 9"/>
          <p:cNvCxnSpPr/>
          <p:nvPr/>
        </p:nvCxnSpPr>
        <p:spPr>
          <a:xfrm>
            <a:off x="-685080" y="329724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21" name="AutoShape 10"/>
          <p:cNvSpPr/>
          <p:nvPr/>
        </p:nvSpPr>
        <p:spPr>
          <a:xfrm>
            <a:off x="719280" y="4930920"/>
            <a:ext cx="1109520" cy="477720"/>
          </a:xfrm>
          <a:custGeom>
            <a:avLst/>
            <a:gdLst>
              <a:gd name="textAreaLeft" fmla="*/ 194040 w 1109520"/>
              <a:gd name="textAreaRight" fmla="*/ 804600 w 110952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2246400" y="1695600"/>
            <a:ext cx="1139760" cy="463320"/>
          </a:xfrm>
          <a:custGeom>
            <a:avLst/>
            <a:gdLst>
              <a:gd name="textAreaLeft" fmla="*/ 199440 w 1139760"/>
              <a:gd name="textAreaRight" fmla="*/ 826560 w 1139760"/>
              <a:gd name="textAreaTop" fmla="*/ 61920 h 463320"/>
              <a:gd name="textAreaBottom" fmla="*/ 401400 h 46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3225960" y="4541760"/>
            <a:ext cx="1109520" cy="478080"/>
          </a:xfrm>
          <a:custGeom>
            <a:avLst/>
            <a:gdLst>
              <a:gd name="textAreaLeft" fmla="*/ 194040 w 1109520"/>
              <a:gd name="textAreaRight" fmla="*/ 804600 w 1109520"/>
              <a:gd name="textAreaTop" fmla="*/ 64080 h 478080"/>
              <a:gd name="textAreaBottom" fmla="*/ 414000 h 47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4303800" y="1487520"/>
            <a:ext cx="1139760" cy="463680"/>
          </a:xfrm>
          <a:custGeom>
            <a:avLst/>
            <a:gdLst>
              <a:gd name="textAreaLeft" fmla="*/ 199440 w 1139760"/>
              <a:gd name="textAreaRight" fmla="*/ 826560 w 1139760"/>
              <a:gd name="textAreaTop" fmla="*/ 61920 h 463680"/>
              <a:gd name="textAreaBottom" fmla="*/ 401760 h 46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845320" y="693720"/>
            <a:ext cx="1139760" cy="463680"/>
          </a:xfrm>
          <a:custGeom>
            <a:avLst/>
            <a:gdLst>
              <a:gd name="textAreaLeft" fmla="*/ 199440 w 1139760"/>
              <a:gd name="textAreaRight" fmla="*/ 826560 w 1139760"/>
              <a:gd name="textAreaTop" fmla="*/ 61920 h 463680"/>
              <a:gd name="textAreaBottom" fmla="*/ 401760 h 46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04640" y="15145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一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462480" y="1274760"/>
            <a:ext cx="78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黑体"/>
              </a:rPr>
              <a:t>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5067360" y="630360"/>
            <a:ext cx="7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黑体"/>
              </a:rPr>
              <a:t>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1197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母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16000" y="2708280"/>
            <a:ext cx="360" cy="576360"/>
            <a:chOff x="1116000" y="2708280"/>
            <a:chExt cx="360" cy="576360"/>
          </a:xfrm>
        </p:grpSpPr>
        <p:sp>
          <p:nvSpPr>
            <p:cNvPr id="131" name="Line 3"/>
            <p:cNvSpPr/>
            <p:nvPr/>
          </p:nvSpPr>
          <p:spPr>
            <a:xfrm>
              <a:off x="1116000" y="2708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1116000" y="270828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4"/>
          <p:cNvSpPr/>
          <p:nvPr/>
        </p:nvSpPr>
        <p:spPr>
          <a:xfrm>
            <a:off x="6877080" y="1125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儿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164360" y="2708280"/>
            <a:ext cx="360" cy="504720"/>
            <a:chOff x="7164360" y="2708280"/>
            <a:chExt cx="360" cy="504720"/>
          </a:xfrm>
        </p:grpSpPr>
        <p:sp>
          <p:nvSpPr>
            <p:cNvPr id="135" name="Line 5"/>
            <p:cNvSpPr/>
            <p:nvPr/>
          </p:nvSpPr>
          <p:spPr>
            <a:xfrm>
              <a:off x="7164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7164360" y="270828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6"/>
          <p:cNvSpPr/>
          <p:nvPr/>
        </p:nvSpPr>
        <p:spPr>
          <a:xfrm>
            <a:off x="6659640" y="314172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小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92360" y="3645000"/>
            <a:ext cx="1512720" cy="360"/>
            <a:chOff x="1692360" y="3645000"/>
            <a:chExt cx="1512720" cy="360"/>
          </a:xfrm>
        </p:grpSpPr>
        <p:sp>
          <p:nvSpPr>
            <p:cNvPr id="139" name="Line 7"/>
            <p:cNvSpPr/>
            <p:nvPr/>
          </p:nvSpPr>
          <p:spPr>
            <a:xfrm>
              <a:off x="1692360" y="3645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1692360" y="3645000"/>
              <a:ext cx="151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787640" y="3645000"/>
            <a:ext cx="1440000" cy="360"/>
            <a:chOff x="4787640" y="3645000"/>
            <a:chExt cx="1440000" cy="360"/>
          </a:xfrm>
        </p:grpSpPr>
        <p:sp>
          <p:nvSpPr>
            <p:cNvPr id="142" name="Line 8"/>
            <p:cNvSpPr/>
            <p:nvPr/>
          </p:nvSpPr>
          <p:spPr>
            <a:xfrm flipH="1">
              <a:off x="4787640" y="364500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788000" y="3645000"/>
              <a:ext cx="143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3419640" y="3213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分歧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95280" y="2637000"/>
            <a:ext cx="360" cy="576000"/>
            <a:chOff x="3995280" y="2637000"/>
            <a:chExt cx="360" cy="576000"/>
          </a:xfrm>
        </p:grpSpPr>
        <p:sp>
          <p:nvSpPr>
            <p:cNvPr id="146" name="Line 10"/>
            <p:cNvSpPr/>
            <p:nvPr/>
          </p:nvSpPr>
          <p:spPr>
            <a:xfrm flipV="1">
              <a:off x="3995640" y="263700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 rot="10800000">
              <a:off x="3995280" y="2637000"/>
              <a:ext cx="36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1"/>
          <p:cNvSpPr/>
          <p:nvPr/>
        </p:nvSpPr>
        <p:spPr>
          <a:xfrm>
            <a:off x="3780000" y="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63640" y="1557360"/>
            <a:ext cx="1584360" cy="360"/>
            <a:chOff x="1763640" y="1557360"/>
            <a:chExt cx="1584360" cy="360"/>
          </a:xfrm>
        </p:grpSpPr>
        <p:sp>
          <p:nvSpPr>
            <p:cNvPr id="150" name="Line 12"/>
            <p:cNvSpPr/>
            <p:nvPr/>
          </p:nvSpPr>
          <p:spPr>
            <a:xfrm>
              <a:off x="1763640" y="15573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763640" y="15573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3"/>
          <p:cNvSpPr/>
          <p:nvPr/>
        </p:nvSpPr>
        <p:spPr>
          <a:xfrm>
            <a:off x="1476360" y="692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黑体"/>
              </a:rPr>
              <a:t>听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003640" y="1557360"/>
            <a:ext cx="1656000" cy="360"/>
            <a:chOff x="5003640" y="1557360"/>
            <a:chExt cx="1656000" cy="360"/>
          </a:xfrm>
        </p:grpSpPr>
        <p:sp>
          <p:nvSpPr>
            <p:cNvPr id="154" name="Line 14"/>
            <p:cNvSpPr/>
            <p:nvPr/>
          </p:nvSpPr>
          <p:spPr>
            <a:xfrm flipH="1">
              <a:off x="5003640" y="15573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003640" y="1557360"/>
              <a:ext cx="16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5"/>
          <p:cNvSpPr/>
          <p:nvPr/>
        </p:nvSpPr>
        <p:spPr>
          <a:xfrm>
            <a:off x="5508720" y="765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黑体"/>
              </a:rPr>
              <a:t>听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564000" y="119700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妻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0" y="191628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（慈祥和蔼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5724360" y="1844640"/>
            <a:ext cx="34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（聪明乖巧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2340000" y="6206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（孝顺爱幼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556000" y="1916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温柔贤惠 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468360" y="3213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大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0" y="0"/>
            <a:ext cx="36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物形象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0" y="3789360"/>
            <a:ext cx="42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文章中心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0" y="4327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文章通过写一家人散步的小事，描绘出一家人浓浓的亲情，颂扬了中华民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尊老爱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传统美德，和中年人对生活的高度使命感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Picture 3" descr="fx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WordArt 4"/>
            <p:cNvSpPr txBox="1"/>
            <p:nvPr/>
          </p:nvSpPr>
          <p:spPr>
            <a:xfrm>
              <a:off x="395280" y="404640"/>
              <a:ext cx="468144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隶书"/>
                </a:rPr>
                <a:t>品味语言</a:t>
              </a:r>
              <a:endParaRPr b="1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69" name="Text Box 5"/>
          <p:cNvSpPr/>
          <p:nvPr/>
        </p:nvSpPr>
        <p:spPr>
          <a:xfrm>
            <a:off x="2556000" y="335772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举</a:t>
            </a:r>
            <a:r>
              <a:rPr b="0" lang="zh-CN" sz="8000" spc="-1" strike="noStrike">
                <a:solidFill>
                  <a:srgbClr val="ffff66"/>
                </a:solidFill>
                <a:latin typeface="Arial"/>
                <a:ea typeface="华文行楷"/>
              </a:rPr>
              <a:t>轻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若</a:t>
            </a:r>
            <a:r>
              <a:rPr b="0" lang="zh-CN" sz="8000" spc="-1" strike="noStrike">
                <a:solidFill>
                  <a:srgbClr val="ffff66"/>
                </a:solidFill>
                <a:latin typeface="Arial"/>
                <a:ea typeface="华文行楷"/>
              </a:rPr>
              <a:t>重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9"/>
          <p:cNvPicPr/>
          <p:nvPr/>
        </p:nvPicPr>
        <p:blipFill>
          <a:blip r:embed="rId1"/>
          <a:stretch/>
        </p:blipFill>
        <p:spPr>
          <a:xfrm>
            <a:off x="228600" y="4648320"/>
            <a:ext cx="8610480" cy="2209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" y="0"/>
            <a:ext cx="8534520" cy="3141000"/>
          </a:xfrm>
          <a:prstGeom prst="rect">
            <a:avLst/>
          </a:prstGeom>
          <a:solidFill>
            <a:srgbClr val="ccff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问题探究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）课文最后一句说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但我和妻子都是慢慢地，稳稳地，走得很仔细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为何要慢慢地，稳稳地，走得那么仔细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）如何理解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我背上的同她背上的加起来，就是整个世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这句话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t110F"/>
          <p:cNvPicPr/>
          <p:nvPr/>
        </p:nvPicPr>
        <p:blipFill>
          <a:blip r:embed="rId1"/>
          <a:stretch/>
        </p:blipFill>
        <p:spPr>
          <a:xfrm>
            <a:off x="380880" y="1523880"/>
            <a:ext cx="3138480" cy="4953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657600" y="685800"/>
            <a:ext cx="5257800" cy="23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莫怀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195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出生，重庆人。笔名周平安、章大明。中国作家协会会员。现为重庆师范大学新闻学院教授。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散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散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家园落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被选入中学语文课本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组卷网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533520" y="45720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99ff33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走近莫怀戚</a:t>
            </a:r>
            <a:endParaRPr b="1" i="1" lang="en-US" sz="2400" spc="1" strike="noStrike">
              <a:ln w="9360">
                <a:solidFill>
                  <a:srgbClr val="99ff33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宋体"/>
                <a:ea typeface="宋体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华文楷体"/>
                <a:ea typeface="华文楷体"/>
              </a:rPr>
              <a:t>答：文中“我”和妻子就代表着中年人，上有老，下有小，既要赡养老人，又要抚养孩子，肩负着承前启后的责任，体现了“我”对生活的一种责任感、使命感。整个世界也就是由老年人、中年人、孩子组成。一个家庭是这样，一个民族乃至全世界又何尝不是这样</a:t>
            </a:r>
            <a:r>
              <a:rPr b="1" lang="en-US" sz="4400" spc="-1" strike="noStrike">
                <a:solidFill>
                  <a:srgbClr val="ff6600"/>
                </a:solidFill>
                <a:latin typeface="华文楷体"/>
                <a:ea typeface="华文楷体"/>
              </a:rPr>
              <a:t>?</a:t>
            </a:r>
            <a:r>
              <a:rPr b="1" lang="zh-CN" sz="4400" spc="-1" strike="noStrike">
                <a:solidFill>
                  <a:srgbClr val="ff6600"/>
                </a:solidFill>
                <a:latin typeface="华文楷体"/>
                <a:ea typeface="华文楷体"/>
              </a:rPr>
              <a:t>所以说背起的是整个世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22096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太阳形 5"/>
          <p:cNvSpPr/>
          <p:nvPr/>
        </p:nvSpPr>
        <p:spPr>
          <a:xfrm>
            <a:off x="8143920" y="5643720"/>
            <a:ext cx="1000080" cy="7855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352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词小用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透露出作者大有深意，他想说的意思，超出了事情本身。“我”背母亲，妻背儿子，从表面上看，“我”害怕他们摔着，其实也就是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老的尊敬，对小的爱护。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者在字里行间流露出一种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生活的热爱，对生命的珍爱，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命就像一只永不熄灭的火炬一代一代往下传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95280" y="2602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整体感知  把握情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324000" y="981000"/>
            <a:ext cx="6781320" cy="642600"/>
            <a:chOff x="324000" y="981000"/>
            <a:chExt cx="6781320" cy="642600"/>
          </a:xfrm>
        </p:grpSpPr>
        <p:sp>
          <p:nvSpPr>
            <p:cNvPr id="179" name="Text Box 5"/>
            <p:cNvSpPr/>
            <p:nvPr/>
          </p:nvSpPr>
          <p:spPr>
            <a:xfrm>
              <a:off x="685440" y="981000"/>
              <a:ext cx="641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假如你是文中的爸爸，你能把当时散步的情景简单叙述一下吗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6"/>
            <p:cNvSpPr/>
            <p:nvPr/>
          </p:nvSpPr>
          <p:spPr>
            <a:xfrm>
              <a:off x="324000" y="1209600"/>
              <a:ext cx="270720" cy="228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324000" y="3068640"/>
            <a:ext cx="8820000" cy="3390120"/>
            <a:chOff x="324000" y="3068640"/>
            <a:chExt cx="8820000" cy="3390120"/>
          </a:xfrm>
        </p:grpSpPr>
        <p:sp>
          <p:nvSpPr>
            <p:cNvPr id="182" name="AutoShape 8"/>
            <p:cNvSpPr/>
            <p:nvPr/>
          </p:nvSpPr>
          <p:spPr>
            <a:xfrm>
              <a:off x="7083360" y="3140280"/>
              <a:ext cx="689040" cy="360360"/>
            </a:xfrm>
            <a:prstGeom prst="rightArrow">
              <a:avLst>
                <a:gd name="adj1" fmla="val 50000"/>
                <a:gd name="adj2" fmla="val 4779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9"/>
            <p:cNvSpPr/>
            <p:nvPr/>
          </p:nvSpPr>
          <p:spPr>
            <a:xfrm>
              <a:off x="3851280" y="3932280"/>
              <a:ext cx="833400" cy="358920"/>
            </a:xfrm>
            <a:prstGeom prst="rightArrow">
              <a:avLst>
                <a:gd name="adj1" fmla="val 50000"/>
                <a:gd name="adj2" fmla="val 5803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0"/>
            <p:cNvSpPr/>
            <p:nvPr/>
          </p:nvSpPr>
          <p:spPr>
            <a:xfrm>
              <a:off x="3395520" y="3213360"/>
              <a:ext cx="719280" cy="341280"/>
            </a:xfrm>
            <a:prstGeom prst="rightArrow">
              <a:avLst>
                <a:gd name="adj1" fmla="val 50000"/>
                <a:gd name="adj2" fmla="val 526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47720" y="3124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全家人一起散步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788000" y="393228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我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决定委屈儿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4932360" y="5085000"/>
              <a:ext cx="4211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我”和妻子分别背起母亲和儿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4"/>
            <p:cNvSpPr/>
            <p:nvPr/>
          </p:nvSpPr>
          <p:spPr>
            <a:xfrm>
              <a:off x="324000" y="3068640"/>
              <a:ext cx="310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我”劝母亲散步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1044000" y="38610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选择大路小路的分歧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6"/>
            <p:cNvSpPr/>
            <p:nvPr/>
          </p:nvSpPr>
          <p:spPr>
            <a:xfrm>
              <a:off x="1837080" y="47246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母亲却依从孙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5750640" y="4724640"/>
              <a:ext cx="184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不好走的地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8"/>
            <p:cNvSpPr/>
            <p:nvPr/>
          </p:nvSpPr>
          <p:spPr>
            <a:xfrm>
              <a:off x="539640" y="4797360"/>
              <a:ext cx="689040" cy="360360"/>
            </a:xfrm>
            <a:prstGeom prst="rightArrow">
              <a:avLst>
                <a:gd name="adj1" fmla="val 50000"/>
                <a:gd name="adj2" fmla="val 4779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9"/>
            <p:cNvSpPr/>
            <p:nvPr/>
          </p:nvSpPr>
          <p:spPr>
            <a:xfrm>
              <a:off x="4211640" y="4797360"/>
              <a:ext cx="833400" cy="358920"/>
            </a:xfrm>
            <a:prstGeom prst="rightArrow">
              <a:avLst>
                <a:gd name="adj1" fmla="val 50000"/>
                <a:gd name="adj2" fmla="val 5803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宋体"/>
                <a:ea typeface="宋体"/>
              </a:rPr>
              <a:t>» </a:t>
            </a:r>
            <a:r>
              <a:rPr b="1" lang="zh-CN" sz="4400" spc="-1" strike="noStrike">
                <a:solidFill>
                  <a:srgbClr val="009900"/>
                </a:solidFill>
                <a:latin typeface="宋体"/>
                <a:ea typeface="宋体"/>
              </a:rPr>
              <a:t>展开想像，体验感受一下，假如你是文中的“我”，毫不犹豫地依从了儿子走小路，那么，母亲会怎样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403848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773440" y="244440"/>
            <a:ext cx="392724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体验反思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5334120"/>
            <a:ext cx="8305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»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通过这件事情，你悟出了什么道理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96720" y="3860640"/>
            <a:ext cx="764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  <a:ea typeface="宋体"/>
              </a:rPr>
              <a:t>»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宋体"/>
              </a:rPr>
              <a:t>晚饭后，全家人在一起看电视，爷爷奶奶喜欢看戏曲节目，爸爸妈妈喜欢看时事报道，你喜欢看动画片，而遥控器在你的手中，你该怎么办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4B24-64A3-4936-B7E9-DB3473FC72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页脚占位符 4"/>
          <p:cNvSpPr/>
          <p:nvPr/>
        </p:nvSpPr>
        <p:spPr>
          <a:xfrm flipV="1">
            <a:off x="3124080" y="67050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04" name="Picture 4" descr="xiaolu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371600"/>
            <a:ext cx="838188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孟子：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老吾老以及人之老，幼吾幼以及人之幼。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孔子：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故，人不独亲其亲、不独子其子，使老有所终、壮有所用、幼有所长、鳏（</a:t>
            </a:r>
            <a:r>
              <a:rPr b="1" lang="en-US" sz="4800" spc="-1" strike="noStrike">
                <a:solidFill>
                  <a:srgbClr val="0033cc"/>
                </a:solidFill>
                <a:latin typeface="黑体"/>
                <a:ea typeface="黑体"/>
              </a:rPr>
              <a:t>guān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）寡孤独废疾者皆有所养。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1219320" y="45720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美好的社会</a:t>
            </a:r>
            <a:endParaRPr b="1" i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35053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971640" y="1844640"/>
            <a:ext cx="6913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英国哲学家培根曾说过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：“哺育子女是动物也有的本能，赡养父母才是人类的文化之举，这个，全世界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中国人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做得最好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b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3"/>
          <p:cNvGrpSpPr/>
          <p:nvPr/>
        </p:nvGrpSpPr>
        <p:grpSpPr>
          <a:xfrm>
            <a:off x="324000" y="260280"/>
            <a:ext cx="2971800" cy="703440"/>
            <a:chOff x="324000" y="260280"/>
            <a:chExt cx="2971800" cy="703440"/>
          </a:xfrm>
        </p:grpSpPr>
        <p:sp>
          <p:nvSpPr>
            <p:cNvPr id="212" name="Oval 4"/>
            <p:cNvSpPr/>
            <p:nvPr/>
          </p:nvSpPr>
          <p:spPr>
            <a:xfrm>
              <a:off x="324000" y="488880"/>
              <a:ext cx="284040" cy="29700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781200" y="26028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温馨回顾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6"/>
          <p:cNvSpPr/>
          <p:nvPr/>
        </p:nvSpPr>
        <p:spPr>
          <a:xfrm>
            <a:off x="468360" y="1052640"/>
            <a:ext cx="7423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、闭上眼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请你回忆一下，生活中家人让你感动的时刻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它或许是一句话、一个眼神、一个动作、一件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11280" y="3500280"/>
            <a:ext cx="8245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你又为他们做过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你还记得他们的生日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楷体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9246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通过这篇文章的学习，让我们懂得家庭成员之间要互相谦让，互相体贴，互敬互爱，这样才能使家庭稳定、幸福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739800" y="3441600"/>
            <a:ext cx="793764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让我们珍视亲情，珍爱亲情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! 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2" descr=""/>
          <p:cNvPicPr/>
          <p:nvPr/>
        </p:nvPicPr>
        <p:blipFill>
          <a:blip r:embed="rId1"/>
          <a:stretch/>
        </p:blipFill>
        <p:spPr>
          <a:xfrm>
            <a:off x="0" y="4680"/>
            <a:ext cx="9612360" cy="6853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28600" y="1295280"/>
            <a:ext cx="906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整体感知课文，理解文章所表达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思想感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练习朗读和圈点勾画，品味揣摩课文中具有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称美的句子及含义丰富的语句，积累语言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学习举轻若重、开门见山、细节描写和以小见大、结尾点题的写法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锻炼理解能力和表达能力，发展思维能力和想象能力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14400" y="457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习目标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b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316080" y="2421000"/>
            <a:ext cx="882792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回家为自己的父母、家人做一件事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捶捶背、洗洗脚、揉揉肩、陪父母散散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打个电话告诉家人，你很爱他们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6920" y="287280"/>
            <a:ext cx="80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作业布置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真诚行动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05720" y="765000"/>
            <a:ext cx="8539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琥珀"/>
              </a:rPr>
              <a:t>字词预习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戚（   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）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分    歧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熬 （   ）        霎（    ）时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宋体"/>
                <a:ea typeface="宋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水波粼粼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14475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戚（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  <a:ea typeface="宋体"/>
              </a:rPr>
              <a:t>qī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） 分歧（ 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  <a:ea typeface="宋体"/>
              </a:rPr>
              <a:t>qí 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熬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(áo)  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霎时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(shà)  </a:t>
            </a:r>
            <a:r>
              <a:rPr b="1" lang="en-US" sz="4400" spc="-1" strike="noStrike">
                <a:solidFill>
                  <a:srgbClr val="800000"/>
                </a:solidFill>
                <a:latin typeface="宋体"/>
                <a:ea typeface="宋体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宋体"/>
                <a:ea typeface="宋体"/>
              </a:rPr>
              <a:t>   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水波粼粼（ 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  <a:ea typeface="宋体"/>
              </a:rPr>
              <a:t>Iín 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3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be0e3"/>
                </a:solidFill>
                <a:latin typeface="Arial"/>
                <a:ea typeface="宋体"/>
              </a:rPr>
              <a:t>重点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宋体"/>
                <a:ea typeface="宋体"/>
              </a:rPr>
              <a:t>2</a:t>
            </a:r>
            <a:r>
              <a:rPr b="1" lang="zh-CN" sz="6000" spc="-1" strike="noStrike">
                <a:solidFill>
                  <a:srgbClr val="800000"/>
                </a:solidFill>
                <a:latin typeface="宋体"/>
                <a:ea typeface="宋体"/>
              </a:rPr>
              <a:t>、解释下列词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信服</a:t>
            </a:r>
            <a:r>
              <a:rPr b="1" lang="zh-CN" sz="6000" spc="-1" strike="noStrike">
                <a:solidFill>
                  <a:srgbClr val="800000"/>
                </a:solidFill>
                <a:latin typeface="宋体"/>
                <a:ea typeface="宋体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各得其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委屈   惊魂未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不知所措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208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信服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：相信并佩服。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科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网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各得其所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： ①指各自得到所需要的东西；②指每个人或事物都得到适当的安置。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委曲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：①（曲调、道路、河流等）弯弯曲曲的； 曲折。②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  <a:ea typeface="宋体"/>
              </a:rPr>
              <a:t>〈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书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  <a:ea typeface="宋体"/>
              </a:rPr>
              <a:t>〉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事情的底细和原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惊魂未定</a:t>
            </a:r>
            <a:r>
              <a:rPr b="1" lang="en-US" sz="4400" spc="-1" strike="noStrike">
                <a:solidFill>
                  <a:srgbClr val="800000"/>
                </a:solidFill>
                <a:latin typeface="宋体"/>
                <a:ea typeface="宋体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4400" spc="-1" strike="noStrike">
                <a:solidFill>
                  <a:srgbClr val="800000"/>
                </a:solidFill>
                <a:latin typeface="宋体"/>
                <a:ea typeface="宋体"/>
              </a:rPr>
              <a:t>指受惊后心情还没有平静下来。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不知所措</a:t>
            </a:r>
            <a:r>
              <a:rPr b="1" lang="zh-CN" sz="4400" spc="-1" strike="noStrike">
                <a:solidFill>
                  <a:srgbClr val="800000"/>
                </a:solidFill>
                <a:latin typeface="宋体"/>
                <a:ea typeface="宋体"/>
              </a:rPr>
              <a:t>：措：安置，处理不知道怎么办才好。形容处境为难或心神慌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4680"/>
            <a:ext cx="9612360" cy="6853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457200"/>
            <a:ext cx="906768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感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大声朗读课文。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勾画出优美语句、词语，把握语气、语调。（语气：</a:t>
            </a:r>
            <a:r>
              <a:rPr b="1" lang="zh-CN" sz="3200" spc="-1" strike="noStrike" u="sng">
                <a:solidFill>
                  <a:srgbClr val="800000"/>
                </a:solidFill>
                <a:uFillTx/>
                <a:latin typeface="Arial"/>
              </a:rPr>
              <a:t>温和，亲切中含着庄重；语调：平稳，声音不宜过高或过低。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）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过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写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简要复述全文主要内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读出来一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人物形象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母亲为什么要走大路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我”为什么感到责任重大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处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看出我和母亲是怎样一个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我”和妻子是如何背着母亲、儿子走过那条小路的？为什么说“我”背上的同她背上的加起来就是整个世界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90720" y="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初读课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06:20:55Z</dcterms:created>
  <dc:creator/>
  <dc:description/>
  <dc:language>en-US</dc:language>
  <cp:lastModifiedBy>Administrator</cp:lastModifiedBy>
  <dcterms:modified xsi:type="dcterms:W3CDTF">2016-02-28T06:22:30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